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98A-C082-4EE3-A3EF-CB3A73E0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517-D454-4AED-8C34-7A2FEEC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629-3456-4542-AE1D-1F4215A9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099-6254-456F-B875-E7A77FE0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1B80-165F-4895-9A13-10954C25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557E-4233-4F98-9B4A-047C5655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9631-2615-4E6E-9C94-2912110B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CBD6-D74D-4ADA-ACE9-91EC88F7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4521-2837-4E0B-B755-84282BA2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8476-101F-4740-9DA6-513121A3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594E-33BD-4F7B-97A7-B9B71E4E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C41-2391-48FE-9FBF-D5C67120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9FD2-06BF-452C-AB3A-10C9ADB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03CF-71FB-46B5-91D6-EDDB9FFA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9784-731E-48C4-ACD8-262D0A53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0AA5-09B7-4525-85DA-D8F91E01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F68D-5C1F-4146-B94F-13773F87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572-5508-4F62-8D69-23D38194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AC5-70D5-43A2-B0BF-33271689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3BD-F7E6-41C2-B187-F05CD46A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86E-7DAC-428E-8F1F-1CDBB119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968-61A5-4E36-AB11-4959DCF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7F2-1CF2-42FC-9CDA-CF84643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DCC-0255-4301-A686-E10492CC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26E2-9FB0-45AA-B183-FBEEC1B06C61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4D89-1495-45AB-BA66-6D5EB85FF1B5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Rehabilitacija </a:t>
            </a:r>
            <a:r>
              <a:rPr b="0" lang="sr-Latn-CS" sz="4800" spc="-1" strike="noStrike">
                <a:solidFill>
                  <a:srgbClr val="ffff99"/>
                </a:solidFill>
                <a:latin typeface="Arial"/>
              </a:rPr>
              <a:t>bolesnika sa lezijom PMN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oc. Dr Tanja Luk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Stadijum oduzetost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asivne vežbe protiv kontrak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levacija protiv otoka (mitela;strma rav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S protiv atrofije oduzetih mišić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prio i eksteroceptivna stimulacija (masaža, četkanje,lupkanje) za priliv impulsa iz oduzetog ekstremit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štititi kožu (rukavice, čara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Stadijum oporavk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otorna redukacija:KTH i terapija ra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) očuvanje obima pokreta 2) povećanje mišićne snage 3) poboljšanje brz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4) poboljšanje koordinacije pokr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nzorna reedukacija: uvežbavanje stereognozije (n.medija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Stadijum trajnih posledic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d nepotpunog  oporavka ili izostalog nakon 18 mese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rtotis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mpezacija(trik pokretom,jednorukim ak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iruške tehnike (transplatacija ner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Kontrola oporavk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inički se najpre oporavljaju vlakna za bol, pa za dodir, a na kraju moto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lazni descedentni oporav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inellov z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trolni neurološki i fizijatrijski preg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trolni EMG i 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Tinellov zna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inički znak oporavka perifernog ner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erkusijom stabla javlja se osećaj strujanja do mesta dokle je regeneraci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1 do 2 mm na d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Fizikalni agensi za PM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lektroterapija: ES, SG,T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rmoterapija: sollux, parafin, peloid; krioterapija; K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ineziterap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rtotis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Periferni nerv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lavna uloga je sprovodjenje impulsa od CNS ka periferiji i obrnu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mijelinska (starija)-u vegetativnom 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nociceptivna vlak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ijelinska (mladja)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Dijagnostika lezije PM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mne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okalizacija lez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cena funkcionalnog stanja i sposob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redjivanje zadataka rehabilit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Neuropraksij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kid funkcije uz očuvan kontinuitet ner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inički –pare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D-parcijalna ED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oravak do 6 nedel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Lokalizacija lez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šte karakteristike lezija PMN:promene tonusa, trofike, senzibiliteta, MTR i patoloških reflek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spituju se oštećeni nerv i mišići koji ga inerviš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Karakterističke kliničke slik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.peroneus                  viseće stopa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.tibialis                       petno stopa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. radialis                    viseča š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. ulnaris                     kandžasta š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. medianus                ruka propoved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li majmunska š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Aksonotmez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kid aks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inički-paraliza, gubitak funkcije, gubitak senzibilit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DR-komplet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MG-denervacioni potencijali, polifa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Neurotmez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tpuni prekid ner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inički mlitava oduzetost, brzo napredovanje atrofije. Kod mešovitog nerva anestezija, suva, istanjena koža, a kasnije i o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DR-potpuna ili apsolut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MG-DNP, polifazija,redukcija tr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oravak nepotpun (,,lepljenje,, preparatima plaz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Stadijum periferne oduzetost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 oduzetosti: sprečavanje kontraktura, deformacija, i širenja inhibicije u 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 oporavka: motorna i senzorna reeduk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 trajnih posledica: supstitucija i kompezacija trajno oštećenih fun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Info</cp:lastModifiedBy>
  <dcterms:modified xsi:type="dcterms:W3CDTF">2010-02-28T22:04:54Z</dcterms:modified>
  <cp:revision>15</cp:revision>
  <dc:subject/>
  <dc:title>Rehabilitacija traumatoloških bolesnika</dc:title>
</cp:coreProperties>
</file>